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r Begriff Eiszeit wird oft synonym zu Kaltzeit oder Glazial verwendet. Er wurde in diesem Sinn 1837 von Karl Friedrich Schimper eingeführt, später gleich-bedeutend mit Eiszeitalter verw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inks: Mamm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chts: Tulpen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leistozäne Eiszeit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57240" y="1979640"/>
            <a:ext cx="84042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r Weg in die Eiszeit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8242560" cy="540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49600" y="7199280"/>
            <a:ext cx="5089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forces.si.edu/arctic/images/02_02_04_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r Weg in die Eiszeit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171880"/>
            <a:ext cx="10080720" cy="44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iederung der Eiszeit (1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Eiszeit wir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azia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Kaltzeiten) u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erglazia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Warmzeiten) unterte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 gibt für eigene Unterteilungen für die Vereisungsphasen der Alpen, des Norddeutschen Tieflandes und der Nordamerikanischen Vereisungspha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 folgenden Betrachten wir die Gliederung der Norddeutschen Vereisungspha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555120"/>
            <a:ext cx="88092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iederung der Eiszeit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7380360" cy="594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80360" y="6480000"/>
            <a:ext cx="2700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obsweb.de/praktikum/images/quartaer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iederung der Eiszeit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6172200" cy="611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59640" y="6659640"/>
            <a:ext cx="3421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obsweb.de/praktikum/images/quartaer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097000"/>
            <a:ext cx="36007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uer der Glaziale: 10.000er bis 100.000er Jah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uer der Interglaziale: 1000er bis 10.000er Jah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auerstoff-Isotopi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860904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chtigstes Hilfsmittel bei der Gliederung des Eiszeitalters sind die Verhältnisse der stabilen Isotope des Sauerstoffs  in kalkschaligen Mikroorganismen (Foraminiferen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s leichtere Isotop 16O wird im Vergleich zum schwereren 18O bei der Verdunstung angereiche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 kommt zu einer isotopischen Fraktionierung des Sauerstoff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f Grund der Speicherung des leichten Isotopes 16O in den kontinentalen Eismassen während der Kaltzeiten ist der Ozean in dieser Zeit isotopisch schwerer (Eiseffek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2400" y="5396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arm und Kaltzeitwechsel (1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urch Vordringen und Rückgang der Gletscher kommt es zu starken Meeresspiegelschwankungen von bis zu 140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e Temperaturunterschiede betragen 7-12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e Vereisungsphasen dauern 10 mal länger als die Warmpha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und: Langsame (mehrphasige) Abkühlung während der Kaltzeiten und schnelles Abschmelzen während der Warmze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00" y="44784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arm und Kaltzeitwechsel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60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60991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ie Lebewel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6099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ährend den glazialen vorallem tundrische Fauna und Flora (ähnlich der heutigen Tundra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den Interglazialen teilweise tropische Bedingun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62760" y="0"/>
            <a:ext cx="31179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nhal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bedeutet „Eiszeit“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lche Faktoren können zu einer Eiszeit führen und welche Faktoren taten dies vor der letzten Eisze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iederung der Eiszeita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 Warmzeit / Kaltzeit-Wechs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ben in der Eis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lche Spuren findet m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puren der Eiszei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Eiszeit hatt unserem Land den letzten Schliff geg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 bildeten sich viele heutige Urstromtä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ränen, Sander und andere Gletscherablagerungen sind Zeugen der Vereisungspha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ße Findlinge und Dropstones zeugen vom Vordringen des E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 Eis geschliffene und polierte Fe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skeile und Eiszap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meisten Ablagerungen aus der letzten Eis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aziale Serie der Alpen (Winter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60360" y="2114640"/>
            <a:ext cx="7620120" cy="490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1520" y="6659640"/>
            <a:ext cx="196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de.wikipedi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aziale Serie der Alpen (Sommer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00240" y="1979640"/>
            <a:ext cx="7619760" cy="501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0360" y="6659640"/>
            <a:ext cx="196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de.wikipedi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720" y="36936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Glaziale Ablagerungen im Nord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7720" y="1824120"/>
            <a:ext cx="7315200" cy="570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112240" y="6908760"/>
            <a:ext cx="196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de.wikipedi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Quell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2040" y="197964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http://de.wikipedia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e Urzeit“ (Bechertermünzer Verlag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gemeine Geologie“ (F. Press, R. Siever, Spektrum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orlesung „Geschichte der Erde“ (W. Frank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kript-14 Quartär zur Vorlesung „Geschichte des Lebens“ (W. Oschmann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360" y="1031760"/>
            <a:ext cx="97725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szeital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rd eine Periode der Erdgeschichte bezeichnet, die durch Vereisung großer Bereiche in Polnähe sowohl auf der Nord- als auch der Südhalbkugel gekennzeichnet ist. Innerhalb eines Eiszeitalters kann es zu deutlichen, relativ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zfristigen Klimaschwankun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ltzeiten (Glazial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rmzeiten (Interglazial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o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341964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4120" y="3419640"/>
            <a:ext cx="53751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r Weg in die Eiszei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 gibt irdische und astronomische Ursachen, die die Erde in eine Eiszeit führen kön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2400" y="19008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xzentrizität, Obliquität, Präzes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960" y="1619280"/>
            <a:ext cx="881532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ilanković - Zyklu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00360" y="1878120"/>
            <a:ext cx="7019640" cy="550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40720" y="7199280"/>
            <a:ext cx="2279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de.wikipedi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rdische Ursach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2400" y="216684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ßkontinente in P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inge plattentektonische Aktivität, sowie damit einhergehend geringer Vulka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hlenstoffdioxidabnahme und Einlagerung in Becken (durch positive Rückkopplung Verstärkung des Systems =&gt; je weniger desto wenig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rm-/ und Kaltwasserverteilung der Meeresströ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Änderung der Luftströmung durch Bildung von Hochgebi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r Weg in die Eiszeit (1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hritt 1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bspaltung der Antarktis führt zu der Bildung einer abgrenzenden Ringströmung um den Kontinent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ch seine Südpollage und dem fehlen von Warmwasserzufuhr kommt es zur Südpolver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0000" y="5064120"/>
            <a:ext cx="7559640" cy="15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09960" y="6672240"/>
            <a:ext cx="5089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forces.si.edu/arctic/images/02_02_04_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er Weg in die Eiszeit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llision von Nord- und Südamerika schließt die Panama Landbrü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warmen Pazifik-Meeresströmungen gelangen nun nicht mehr bis zu den nordpolaren Geb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ge: Vereisung des Nordpolarme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31960" y="4859280"/>
            <a:ext cx="3848040" cy="250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